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12EB-9352-45C7-B9BF-666247506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5F55-7ACE-4F12-986F-5F71E0871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996B-5286-42D5-B56D-0261E8EF1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5ED2-D102-4CB0-BE52-BAC055819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5147-8461-4F79-A8D7-A7E02D29D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B429-B27A-4D6A-B993-6FB210ED9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52F1-A0F8-4997-8057-0E1807A01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3F81-09D9-4708-97D9-912F21ADC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742C-BB82-4CF3-8D55-9D1A54381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50B7-7D18-4AC3-BE51-4E3C9BB24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734D-BB3D-4338-B8F7-08E45C664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5C29-5F0B-4D88-8B75-775C6200B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739C-8035-4B8E-892F-B635113C1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718-4290-4E24-BC8D-6ED76BA0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92A-F73A-4671-B144-167469A4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A87-02AB-4B58-B280-55AA74A0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9D7-31F2-4E39-8C7E-C60E36BC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140E-0C5F-4BCC-AC4D-C5B52EA0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31E9-8534-4914-88B8-39DC6713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FFB1-367C-4BF5-A1F8-38AD47DA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397B-928D-4B0B-807F-5CA47215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07EA-7A51-4886-BE40-B9C52EB3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9210-B15C-4AC9-AAA7-156C18A3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761A-CD8F-4DD2-B16A-C5DEEC79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245-82B8-40B6-A759-63FE048A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142D-0BA4-4B36-B0DC-09923C59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F805-E512-473E-88F8-742DC5A8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F5E0-02A1-4027-B95E-0C19144B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A638-2847-4619-807C-B8F98B24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1EB3-5B61-432D-A3E1-04A129BE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59FBA-1AC8-452A-B7A0-0080A172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4D830-41B3-4B0D-A2E9-7B7D375F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0923-C549-4B2D-8422-262FDE13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24087-650F-41E0-B35D-94E0616C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924CB-B10C-4D9F-87A8-9A8FA936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5F1-E26A-4FF2-843F-39BC31B6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8AF3-689A-4EB5-AF96-EC58E37D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0B3D5-26B6-443D-A09D-50009231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0C87-E76A-42C6-B494-D1D6D8A5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26C08-173D-4DDF-9423-CD4AB5A3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63EFA-6859-414F-8CC7-F10B3990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F082D-E724-4283-A781-D706C325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52BE8-C8B5-48F1-B3A4-84B4FC9E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7B967-CFFE-44C3-A6C0-6B52B9D8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2F8BF-2B25-4291-88EA-3D241E34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5582F-2D99-4E53-9236-64B9AFB4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131-01BB-45DF-AE3B-056CA324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5E79E-A2A9-4BA5-A113-CF6F1D41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16FEC-5569-4D76-B06F-2ACA96E7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C5FD5-CDD2-421D-8F32-6FCCF439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C2CBB-8AD8-47A0-A200-D8E11F8F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C1052-5A72-4312-8506-1D154FEB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B5C0C-A475-4A6A-89C8-713EA7E9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835BB-54E8-4F79-A92C-416CE273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EB04F-E872-4666-93B8-022BA386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97169-DCD6-4CD6-82CA-431C5E1B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D8815-C388-4C4D-952B-BDA5FBAE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26E-5AAA-4660-B0DD-3AD2E937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4C303-1F7A-4F49-9BEE-9958444A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6E5EF-F650-48A9-AD70-179D7B96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9255D-87B0-4576-B056-547D99E2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22088-9DDA-46FB-B1D8-4777A7B9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D9532-6D4C-486B-BC7E-C691DF16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3A349-2512-4097-886F-455600E9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67B98-FDEB-464A-B301-21939A02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C4748-83BD-41D1-B083-9236AFFA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1C2CB-6198-4029-A62B-6B6978D6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6ED93-B4ED-4506-B51A-1C7976B7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1B2-BF7F-4F76-8AF8-9CB4A8D5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1A992-4744-4DEA-ABBD-EBF1462E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4E8-E7BF-43BA-9BA8-4FA3E999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569-BDF4-4E9A-99CB-F0BB7D85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A54-63AB-4C85-BF6A-BD9AE8F1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A71F-777A-4A1A-A744-449BAA4ADA6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553A-4B33-4EBC-89DB-FB14DDB2350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F859-1F05-493F-A09F-9721284037B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63E3-FCCD-4EA8-B48F-B7597FEC09E3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9807-7BC5-4112-B53C-82F04A6F37E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November 1, 2011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eriod 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is a broad idea or message about life, society, or human natur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Universal them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shines a light on our common human experience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Remember: a subject is not the same thing as a theme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subject of a story is what the story is about; the theme of a story is a statement, direct or implied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abou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the subjec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Individual against Natu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Individual against Socie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 Individual’s Relation to a Higher Pow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Individual’s Relation to Another Individu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rowing U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ing of Ag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Passing of Ti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at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ien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How do I find a theme?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238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theme isn’t just a topic that a story is written about—it’s how the story approaches that topic. The theme is the important area that the story explor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 example: one of the themes in S.E. Hinton’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The Outsider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is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he senselessness of rivalry between different “classes” of people;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other is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he importance of famil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topic is class rivalry; the story’s opinion of that topic is that rivalry is pointles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topic is family; the story’s opinion is that family is importan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were some of the most important themes in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Small as an Elephan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sic definition: the events that make up a story. These events are organized in a specific way so that they take the reader “on a journey” from beginning to en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re are five basic elements to a standard plot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Exposi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ising A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limax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alling A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esolution or denouemen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Straight Connector 4"/>
          <p:cNvSpPr/>
          <p:nvPr/>
        </p:nvSpPr>
        <p:spPr>
          <a:xfrm>
            <a:off x="609480" y="4495680"/>
            <a:ext cx="1371600" cy="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Straight Connector 6"/>
          <p:cNvSpPr/>
          <p:nvPr/>
        </p:nvSpPr>
        <p:spPr>
          <a:xfrm flipV="1">
            <a:off x="1981080" y="1905120"/>
            <a:ext cx="2133720" cy="259056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Straight Connector 8"/>
          <p:cNvSpPr/>
          <p:nvPr/>
        </p:nvSpPr>
        <p:spPr>
          <a:xfrm>
            <a:off x="4114800" y="1905120"/>
            <a:ext cx="1600200" cy="175248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Straight Connector 10"/>
          <p:cNvSpPr/>
          <p:nvPr/>
        </p:nvSpPr>
        <p:spPr>
          <a:xfrm>
            <a:off x="5715000" y="3657600"/>
            <a:ext cx="1676520" cy="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457200" y="4038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xposi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TextBox 12"/>
          <p:cNvSpPr/>
          <p:nvPr/>
        </p:nvSpPr>
        <p:spPr>
          <a:xfrm rot="18628200">
            <a:off x="2145240" y="2829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ising A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331956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max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TextBox 14"/>
          <p:cNvSpPr/>
          <p:nvPr/>
        </p:nvSpPr>
        <p:spPr>
          <a:xfrm rot="2869800">
            <a:off x="4268520" y="2545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alling A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5935680" y="3059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solution or Denouemen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rst stage of the plot diagra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s stage is an introduction. The reader is introduced to the setting and the characters. The reader also begins to understand the problem, or conflict, of the stor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stage of the plot diagra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this stage, the problem builds. We start to witness events or situations that make the problem grow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stage of the plot diagra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ost exciting part of the story! The problem reaches its high point. What will happen next? How can the problem be solved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stage of the plot diagra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ction is winding down. The problem is on its way to being solved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and final stage of the plot diagra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problem is wrapped up. Note: this does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mean that there’s a happy ending. It simply means that the problem has been solved – for better or wors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2" name="Straight Connector 4"/>
          <p:cNvSpPr/>
          <p:nvPr/>
        </p:nvSpPr>
        <p:spPr>
          <a:xfrm>
            <a:off x="609480" y="4495680"/>
            <a:ext cx="1371600" cy="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Straight Connector 6"/>
          <p:cNvSpPr/>
          <p:nvPr/>
        </p:nvSpPr>
        <p:spPr>
          <a:xfrm flipV="1">
            <a:off x="1981080" y="1905120"/>
            <a:ext cx="2133720" cy="259056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Straight Connector 8"/>
          <p:cNvSpPr/>
          <p:nvPr/>
        </p:nvSpPr>
        <p:spPr>
          <a:xfrm>
            <a:off x="4114800" y="1905120"/>
            <a:ext cx="1600200" cy="175248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Straight Connector 10"/>
          <p:cNvSpPr/>
          <p:nvPr/>
        </p:nvSpPr>
        <p:spPr>
          <a:xfrm>
            <a:off x="5715000" y="3657600"/>
            <a:ext cx="1676520" cy="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457200" y="4038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xposi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TextBox 12"/>
          <p:cNvSpPr/>
          <p:nvPr/>
        </p:nvSpPr>
        <p:spPr>
          <a:xfrm rot="18628200">
            <a:off x="2145240" y="2829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ising A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331956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max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TextBox 14"/>
          <p:cNvSpPr/>
          <p:nvPr/>
        </p:nvSpPr>
        <p:spPr>
          <a:xfrm rot="2869800">
            <a:off x="4268520" y="2545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alling A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TextBox 15"/>
          <p:cNvSpPr/>
          <p:nvPr/>
        </p:nvSpPr>
        <p:spPr>
          <a:xfrm>
            <a:off x="5935680" y="3059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solution or Denouemen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380880" y="4876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at parts of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Small as an Elephan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would fit into each of these stages of plo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2:13:07Z</dcterms:created>
  <dc:creator>Dara</dc:creator>
  <dc:description/>
  <dc:language>en-US</dc:language>
  <cp:lastModifiedBy>dbowling</cp:lastModifiedBy>
  <dcterms:modified xsi:type="dcterms:W3CDTF">2011-11-05T18:46:34Z</dcterms:modified>
  <cp:revision>5</cp:revision>
  <dc:subject/>
  <dc:title>Plot and Theme</dc:title>
</cp:coreProperties>
</file>